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2400" spc="-1" strike="noStrike">
              <a:solidFill>
                <a:srgbClr val="5b5249"/>
              </a:solidFill>
              <a:latin typeface="Lucida Console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2383-319D-4A34-B6C4-F191B1DBD2C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A6D3B-570E-48FE-A592-9FB1836DF799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5b5249"/>
              </a:solidFill>
              <a:latin typeface="Lucida Console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5908E-DAAE-4495-997C-4AC3C9CE8BCF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5b5249"/>
              </a:solidFill>
              <a:latin typeface="Lucida Consol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0C2B-AC55-4177-A2C7-BF73889FEB2A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5b5249"/>
              </a:solidFill>
              <a:latin typeface="Lucida Console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21F9B-E8CA-4A4A-A20C-81F0EC02BA0C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5b5249"/>
              </a:solidFill>
              <a:latin typeface="Lucida Consol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BECF-7FFC-43A6-AD31-8B3F39D40F8D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5b5249"/>
              </a:solidFill>
              <a:latin typeface="Lucida Console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Номер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AE0B-C9A3-4903-8E3A-46223F313CDA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5b5249"/>
              </a:solidFill>
              <a:latin typeface="Lucida Consol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302B-B0E0-40A6-B7DD-A4FC24463C3E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5b5249"/>
              </a:solidFill>
              <a:latin typeface="Lucida Console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 u="sng">
              <a:solidFill>
                <a:srgbClr val="000000"/>
              </a:solidFill>
              <a:uFillTx/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6A92-5D71-492C-8F8E-F4897E64EF94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5b5249"/>
              </a:solidFill>
              <a:latin typeface="Lucida Console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эту было 19 лет, когда он рпихал в Москву. Заводя новые знакомства, познакомился с работавшей в типографии Анной Изрядновой. Он нашел в ней ценительницу, понимающую слушательницу своих стихов, человека удивительной скромности и чистоты. Вместе они ходили в Университет Шанявского, говорили о литературе; по вечерам , пешком, через всю Москву, провожал ее домой. Анна Изряднова приютила у себя бездомного поэта, жившего где придется, стала его гражданской женой. В 1914 году эта тихая, милая, преданная женщина родила ему сына Юрия, которому он был заботливым отцом. Затем его поэтическая  муза увела его в литературный Петроград. Между тем Анна Романовна была для него чуть ли не единственным человеком, которому он безгранично доверял. Память о ней была свята. К ней он приходил жечь рукописи, к ней он пришел в роковой день отъезда в Ленинград, в декабре 1925 г, чувствуя что его вот вот убъют, заходил прощаться, сказал: «Береги сына!». Видно ранимое сердце поэта предчувствовало беду. Жестокая участь ждала его сына, столь же независимого и смелого в суждениях, так же писавшего стихи. В 1937 году он был арестован и после садистских пыток был расстреля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5A9C9-2805-4373-A188-3C2C717190FE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5b5249"/>
              </a:solidFill>
              <a:latin typeface="Lucida Console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978B-FC54-4F5E-9082-BD54FBD2A403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5b5249"/>
              </a:solidFill>
              <a:latin typeface="Lucida Consol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5718-44F7-4919-B0F4-8759D9179195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5b5249"/>
              </a:solidFill>
              <a:latin typeface="Lucida Console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E216-07FD-44D9-83BF-D500844BF4BA}" type="slidenum">
              <a:rPr b="0" lang="ru-RU" sz="1200" spc="-1" strike="noStrike">
                <a:solidFill>
                  <a:srgbClr val="5b5249"/>
                </a:solidFill>
                <a:latin typeface="Times New Roman"/>
              </a:rPr>
              <a:t>&lt;number&gt;</a:t>
            </a:fld>
            <a:endParaRPr b="1" i="1" lang="en-US" sz="1200" spc="-1" strike="noStrike">
              <a:solidFill>
                <a:srgbClr val="5b5249"/>
              </a:solidFill>
              <a:latin typeface="Lucida Console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D7D3-8390-4BDA-9018-D3E7D6BD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A2B3-6B51-4FF1-98FC-3822251A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D8E-276E-4DE2-9359-B81E7AEC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E568-E0B0-470B-87E4-00A13528A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5C18-C3D8-49BA-9436-76E93B02F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8E16F-8CE7-485C-BA30-D8ABF26B8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05900-0010-4B3C-A5AD-6CC855A9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9301-8146-4A07-9B5E-987D2E6C5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6DE7-CE58-42C9-9259-53945881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59FCD-C115-4410-96F4-F2E5A8205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04434-BE2C-4B29-B1A5-83A65A41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E8AF-687F-4262-BC3B-8CA6F871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FF903-3D63-4B33-A6F7-13F17C3A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0EA01-D946-4F21-92EB-1F285CE9A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5086C-2941-46DE-B061-F867A39A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4E0B5-95D9-4633-97A1-B8ECA60A8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3D9B8-1DC1-4E1F-B9CE-CCE27B5E2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641-444B-4F70-A6B1-7E5825C97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E571-DA6D-4672-9B44-97253FAF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A942-14D8-43E5-B436-2B771EF8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901C-AA04-430A-A548-E776CB93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6CF0-0CDB-4229-B149-23748FB8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E948-4932-4BBD-B7EE-B45A1326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3D81-4593-429B-B588-96336401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5b5249"/>
              </a:solidFill>
              <a:latin typeface="Lucida Console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5b5249"/>
              </a:solidFill>
              <a:latin typeface="Lucida Console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5b5249"/>
              </a:solidFill>
              <a:latin typeface="Lucida Console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5b5249"/>
              </a:solidFill>
              <a:latin typeface="Lucida Console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5b5249"/>
              </a:solidFill>
              <a:latin typeface="Lucida Console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5b5249"/>
              </a:solidFill>
              <a:latin typeface="Lucida Console"/>
            </a:endParaRPr>
          </a:p>
        </p:txBody>
      </p:sp>
      <p:pic>
        <p:nvPicPr>
          <p:cNvPr id="7" name="Picture 9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5b5249"/>
              </a:solidFill>
              <a:latin typeface="Lucida Console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57F8E-1835-419C-B1C7-CDAE163F3146}" type="slidenum">
              <a:rPr b="0" lang="ru-RU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5b5249"/>
              </a:solidFill>
              <a:latin typeface="Lucida Console"/>
            </a:endParaRPr>
          </a:p>
        </p:txBody>
      </p:sp>
      <p:pic>
        <p:nvPicPr>
          <p:cNvPr id="48" name="Picture 3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5b5249"/>
              </a:solidFill>
              <a:latin typeface="Lucida Console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5b5249"/>
              </a:solidFill>
              <a:latin typeface="Lucida Console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5b5249"/>
              </a:solidFill>
              <a:latin typeface="Lucida Console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A11A-617E-46F4-80AA-097B1A5FB31B}" type="slidenum">
              <a:rPr b="0" lang="ru-RU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1066320"/>
            <a:ext cx="71629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0" lang="ru-RU" sz="7200" spc="-1" strike="noStrike">
                <a:solidFill>
                  <a:srgbClr val="2a3d7a"/>
                </a:solidFill>
                <a:latin typeface="Monotype Corsiva"/>
              </a:rPr>
              <a:t>Певец берёзового ситца</a:t>
            </a:r>
            <a:endParaRPr b="0" lang="en-US" sz="7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400" y="4190760"/>
            <a:ext cx="7524720" cy="153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Литературный вечер по творчеству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5b5249"/>
                </a:solidFill>
                <a:latin typeface="Times New Roman"/>
              </a:rPr>
              <a:t>Сергея Есенин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3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9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Рисунок 1" descr=""/>
          <p:cNvPicPr/>
          <p:nvPr/>
        </p:nvPicPr>
        <p:blipFill>
          <a:blip r:embed="rId1"/>
          <a:stretch/>
        </p:blipFill>
        <p:spPr>
          <a:xfrm>
            <a:off x="684360" y="790560"/>
            <a:ext cx="845964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1" descr=""/>
          <p:cNvPicPr/>
          <p:nvPr/>
        </p:nvPicPr>
        <p:blipFill>
          <a:blip r:embed="rId1"/>
          <a:stretch/>
        </p:blipFill>
        <p:spPr>
          <a:xfrm>
            <a:off x="755640" y="728640"/>
            <a:ext cx="817236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1" descr=""/>
          <p:cNvPicPr/>
          <p:nvPr/>
        </p:nvPicPr>
        <p:blipFill>
          <a:blip r:embed="rId1"/>
          <a:stretch/>
        </p:blipFill>
        <p:spPr>
          <a:xfrm>
            <a:off x="755640" y="728640"/>
            <a:ext cx="8172360" cy="61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Рисунок 1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824364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Рисунок 1" descr=""/>
          <p:cNvPicPr/>
          <p:nvPr/>
        </p:nvPicPr>
        <p:blipFill>
          <a:blip r:embed="rId1"/>
          <a:stretch/>
        </p:blipFill>
        <p:spPr>
          <a:xfrm>
            <a:off x="468360" y="701640"/>
            <a:ext cx="8207280" cy="61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1" descr=""/>
          <p:cNvPicPr/>
          <p:nvPr/>
        </p:nvPicPr>
        <p:blipFill>
          <a:blip r:embed="rId1"/>
          <a:stretch/>
        </p:blipFill>
        <p:spPr>
          <a:xfrm>
            <a:off x="611280" y="765000"/>
            <a:ext cx="831672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Рисунок 1" descr=""/>
          <p:cNvPicPr/>
          <p:nvPr/>
        </p:nvPicPr>
        <p:blipFill>
          <a:blip r:embed="rId1"/>
          <a:stretch/>
        </p:blipFill>
        <p:spPr>
          <a:xfrm>
            <a:off x="755640" y="765000"/>
            <a:ext cx="81723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Рисунок 1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8243640" cy="61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Рисунок 1" descr=""/>
          <p:cNvPicPr/>
          <p:nvPr/>
        </p:nvPicPr>
        <p:blipFill>
          <a:blip r:embed="rId1"/>
          <a:stretch/>
        </p:blipFill>
        <p:spPr>
          <a:xfrm>
            <a:off x="971640" y="884160"/>
            <a:ext cx="792144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1" descr=""/>
          <p:cNvPicPr/>
          <p:nvPr/>
        </p:nvPicPr>
        <p:blipFill>
          <a:blip r:embed="rId1"/>
          <a:stretch/>
        </p:blipFill>
        <p:spPr>
          <a:xfrm>
            <a:off x="1042920" y="836640"/>
            <a:ext cx="7921800" cy="591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611280" y="838080"/>
            <a:ext cx="8227800" cy="54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Рисунок 1" descr=""/>
          <p:cNvPicPr/>
          <p:nvPr/>
        </p:nvPicPr>
        <p:blipFill>
          <a:blip r:embed="rId1"/>
          <a:stretch/>
        </p:blipFill>
        <p:spPr>
          <a:xfrm>
            <a:off x="600120" y="981000"/>
            <a:ext cx="85424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"/>
          <p:cNvPicPr/>
          <p:nvPr/>
        </p:nvPicPr>
        <p:blipFill>
          <a:blip r:embed="rId1"/>
          <a:stretch/>
        </p:blipFill>
        <p:spPr>
          <a:xfrm>
            <a:off x="785880" y="846000"/>
            <a:ext cx="8107200" cy="590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"/>
          <p:cNvPicPr/>
          <p:nvPr/>
        </p:nvPicPr>
        <p:blipFill>
          <a:blip r:embed="rId1"/>
          <a:stretch/>
        </p:blipFill>
        <p:spPr>
          <a:xfrm>
            <a:off x="566640" y="907920"/>
            <a:ext cx="8559720" cy="56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"/>
          <p:cNvPicPr/>
          <p:nvPr/>
        </p:nvPicPr>
        <p:blipFill>
          <a:blip r:embed="rId1"/>
          <a:stretch/>
        </p:blipFill>
        <p:spPr>
          <a:xfrm>
            <a:off x="539640" y="768240"/>
            <a:ext cx="849636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"/>
          <p:cNvPicPr/>
          <p:nvPr/>
        </p:nvPicPr>
        <p:blipFill>
          <a:blip r:embed="rId1"/>
          <a:stretch/>
        </p:blipFill>
        <p:spPr>
          <a:xfrm>
            <a:off x="714240" y="793800"/>
            <a:ext cx="8321760" cy="624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"/>
          <p:cNvPicPr/>
          <p:nvPr/>
        </p:nvPicPr>
        <p:blipFill>
          <a:blip r:embed="rId1"/>
          <a:stretch/>
        </p:blipFill>
        <p:spPr>
          <a:xfrm>
            <a:off x="785880" y="784080"/>
            <a:ext cx="8250120" cy="618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2700360" y="946080"/>
            <a:ext cx="4213080" cy="59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7" descr=""/>
          <p:cNvPicPr/>
          <p:nvPr/>
        </p:nvPicPr>
        <p:blipFill>
          <a:blip r:embed="rId1"/>
          <a:stretch/>
        </p:blipFill>
        <p:spPr>
          <a:xfrm>
            <a:off x="1001880" y="879480"/>
            <a:ext cx="7962840" cy="59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10:47:15Z</dcterms:created>
  <dc:creator>Евгений</dc:creator>
  <dc:description/>
  <dc:language>en-US</dc:language>
  <cp:lastModifiedBy>Лена</cp:lastModifiedBy>
  <dcterms:modified xsi:type="dcterms:W3CDTF">2020-04-09T05:28:55Z</dcterms:modified>
  <cp:revision>27</cp:revision>
  <dc:subject/>
  <dc:title>Приветствует мой стих младых царевен</dc:title>
</cp:coreProperties>
</file>